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FF7-F355-47E0-B0C8-989BFF93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511-E38C-46FB-8E23-BD717386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A53-F6D1-4108-9EEE-B82C7CCF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2D2-3F02-43C4-9FC1-81373D88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9CC-AE47-4721-A006-440FF387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1AB-307F-493B-8ED5-7D6173E8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674-FD77-4340-94C7-6AA74B63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28D-B560-4718-AAEE-16BA16A6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D9B-48ED-4968-9E9B-5BED56A0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76F-FD55-4888-82FD-A657FC68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BA6-26EB-4AE5-BCE3-055C4900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057-E273-4DBA-9D56-AF50EFDF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8CD8-DBEE-4692-A44D-91167DF63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Figury przestrzen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ześcian, prostopadłościan, graniastosłup i ostrosł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cc00"/>
                </a:solidFill>
                <a:latin typeface="Times New Roman"/>
              </a:rPr>
              <a:t>Ostrosł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34290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1981080"/>
            <a:ext cx="1066680" cy="1447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657600" y="4342680"/>
            <a:ext cx="106668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429000"/>
            <a:ext cx="1600200" cy="4572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724280" y="3886200"/>
            <a:ext cx="1600200" cy="4572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133000" y="3429000"/>
            <a:ext cx="1523880" cy="4572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133000" y="3886200"/>
            <a:ext cx="1523880" cy="4572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286000"/>
            <a:ext cx="2590920" cy="457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895480"/>
            <a:ext cx="3048120" cy="5335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505320"/>
            <a:ext cx="2590920" cy="2286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KONIEC PREZENTA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rostopadłoś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a50021"/>
                </a:solidFill>
                <a:latin typeface="Times New Roman"/>
              </a:rPr>
              <a:t>Wzór na pole całkowite prostopadłościan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a50021"/>
                </a:solidFill>
                <a:latin typeface="Times New Roman"/>
              </a:rPr>
              <a:t>Pc=(P1+P2+P3)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a50021"/>
                </a:solidFill>
                <a:latin typeface="Times New Roman"/>
              </a:rPr>
              <a:t>Wzór na objętoś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a50021"/>
                </a:solidFill>
                <a:latin typeface="Times New Roman"/>
              </a:rPr>
              <a:t>v=a*b*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a50021"/>
                </a:solidFill>
                <a:latin typeface="Times New Roman"/>
              </a:rPr>
              <a:t>Prostopadłościan 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a50021"/>
                </a:solidFill>
                <a:latin typeface="Times New Roman"/>
              </a:rPr>
              <a:t>6 ścian, 8 wierzcholków i 12 krawęd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śc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erzchoł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rawęd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3886200"/>
            <a:ext cx="3352680" cy="1981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438280"/>
            <a:ext cx="15264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297180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266688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Sześ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Wzór na pole całkow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Pc=(a*a)*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Wzór na objętoś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v=a*a*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Sześcian 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6 ścian, 8 wierzchołków i 12 krawę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ścian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erzchoł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rawęd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3429000"/>
            <a:ext cx="2362320" cy="22096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362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32767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70572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ff"/>
                </a:solidFill>
                <a:latin typeface="Times New Roman"/>
              </a:rPr>
              <a:t>Graniastosł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Times New Roman"/>
              </a:rPr>
              <a:t>Wzór na pole całkowite graniastosłup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Times New Roman"/>
              </a:rPr>
              <a:t>Pc=Pp*2+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Times New Roman"/>
              </a:rPr>
              <a:t>Wzór na objętoś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Times New Roman"/>
              </a:rPr>
              <a:t>v=Pp*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Times New Roman"/>
              </a:rPr>
              <a:t>Graniastosłup musi mieć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Times New Roman"/>
              </a:rPr>
              <a:t>2 podstawy i ściany bo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Wysokość graniastosłupa oznacza mała litera „h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Gdy podstawą graniastosłupa jest trójkąt, graniastosłup nazywamy trójkątnym, gdy czworokąt- czworokątnym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Ściany graniastosłupa zawsze są prostokąt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990099"/>
                </a:solidFill>
                <a:latin typeface="Times New Roman"/>
              </a:rPr>
              <a:t>Ostrosł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Times New Roman"/>
              </a:rPr>
              <a:t>Pole całkow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Times New Roman"/>
              </a:rPr>
              <a:t>Pc=Pp + 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Times New Roman"/>
              </a:rPr>
              <a:t>Objęto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Times New Roman"/>
              </a:rPr>
              <a:t>V=Pp : 3 *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Times New Roman"/>
              </a:rPr>
              <a:t>W każdym ostrosłupie można wskazać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Times New Roman"/>
              </a:rPr>
              <a:t>- podstawę która jest wieloką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Times New Roman"/>
              </a:rPr>
              <a:t>- ściany boczne, które są trójkątami o wspólnym wierzchoł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Times New Roman"/>
              </a:rPr>
              <a:t>Ostrosłup, którego ściany są jednakowymi trójkątami równobocznymi nazywamy </a:t>
            </a:r>
            <a:r>
              <a:rPr b="1" lang="pl-PL" sz="1800" spc="-1" strike="noStrike">
                <a:solidFill>
                  <a:srgbClr val="800080"/>
                </a:solidFill>
                <a:latin typeface="Times New Roman"/>
              </a:rPr>
              <a:t>czworościanem foremn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wierzchołek ostrosłu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ff9900"/>
                </a:solidFill>
                <a:latin typeface="Times New Roman"/>
              </a:rPr>
              <a:t>krawędzie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bocz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ściana bocz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Times New Roman"/>
              </a:rPr>
              <a:t>wierzchołe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ff99"/>
                </a:solidFill>
                <a:latin typeface="Times New Roman"/>
              </a:rPr>
              <a:t>podsta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660066"/>
                </a:solidFill>
                <a:latin typeface="Times New Roman"/>
              </a:rPr>
              <a:t>pods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krawęd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podsta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4343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715000" y="4114440"/>
            <a:ext cx="685800" cy="685800"/>
          </a:xfrm>
          <a:prstGeom prst="line">
            <a:avLst/>
          </a:prstGeom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4114800"/>
            <a:ext cx="685800" cy="6858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480060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400800" y="342864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715000" y="3429000"/>
            <a:ext cx="685800" cy="1371600"/>
          </a:xfrm>
          <a:prstGeom prst="line">
            <a:avLst/>
          </a:prstGeom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400440" y="3429000"/>
            <a:ext cx="685800" cy="1371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400800" y="3124080"/>
            <a:ext cx="45720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705720" y="4191120"/>
            <a:ext cx="761760" cy="4572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705720" y="3352680"/>
            <a:ext cx="76176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400440" y="3352680"/>
            <a:ext cx="1066680" cy="4572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4648320"/>
            <a:ext cx="6858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3886200"/>
            <a:ext cx="685800" cy="228600"/>
          </a:xfrm>
          <a:prstGeom prst="line">
            <a:avLst/>
          </a:prstGeom>
          <a:ln w="936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505320"/>
            <a:ext cx="380880" cy="380880"/>
          </a:xfrm>
          <a:prstGeom prst="line">
            <a:avLst/>
          </a:prstGeom>
          <a:ln w="93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990099"/>
                </a:solidFill>
                <a:latin typeface="Times New Roman"/>
              </a:rPr>
              <a:t>Siat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Prostopadłościanu, sześcianu, graniastosłupa, ostrosłu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29000" y="42670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8080"/>
                </a:solidFill>
                <a:latin typeface="Times New Roman"/>
              </a:rPr>
              <a:t>Prostopadłoś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35053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3505320"/>
            <a:ext cx="17524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35053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3505320"/>
            <a:ext cx="17524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4724280"/>
            <a:ext cx="175248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286000"/>
            <a:ext cx="175248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438280" y="4800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95280" y="49528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8098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733920" y="60195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9966"/>
                </a:solidFill>
                <a:latin typeface="Times New Roman"/>
              </a:rPr>
              <a:t>Sześ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3505320"/>
            <a:ext cx="106668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505320"/>
            <a:ext cx="106668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4495680"/>
            <a:ext cx="10666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2514600"/>
            <a:ext cx="10666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3505320"/>
            <a:ext cx="106668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3505320"/>
            <a:ext cx="106704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505320"/>
            <a:ext cx="76212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295280" y="2971800"/>
            <a:ext cx="18288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3657600"/>
            <a:ext cx="1066680" cy="152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286000" y="4571640"/>
            <a:ext cx="3049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Graniastosł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209680"/>
            <a:ext cx="2209680" cy="9907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200400"/>
            <a:ext cx="2209680" cy="9907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200400"/>
            <a:ext cx="1143000" cy="9907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200400"/>
            <a:ext cx="2209680" cy="9907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191120"/>
            <a:ext cx="2209680" cy="990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4191120"/>
            <a:ext cx="1143000" cy="990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43000" y="4267080"/>
            <a:ext cx="114300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143000" y="4267080"/>
            <a:ext cx="2895480" cy="9144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4648320"/>
            <a:ext cx="3352680" cy="1218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4:24:24Z</dcterms:created>
  <dc:creator>abc</dc:creator>
  <dc:description/>
  <dc:language>en-US</dc:language>
  <cp:lastModifiedBy>abc</cp:lastModifiedBy>
  <dcterms:modified xsi:type="dcterms:W3CDTF">2010-04-19T19:37:13Z</dcterms:modified>
  <cp:revision>5</cp:revision>
  <dc:subject/>
  <dc:title>Figury przestrzenne</dc:title>
</cp:coreProperties>
</file>